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3E5BA-EC89-491E-8366-6DA9F46DA7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42D91-13CC-4D5C-96FA-678D6ADE9E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6D171-6053-4588-9D1D-EDB287CB79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495B9-89C1-4EAE-8400-45D9C735E8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A0F02-EFD5-4BE0-8813-E101FCC1F6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A0249-7689-4198-9C79-ADF69E6713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42E55-7715-4416-8DFE-4D10E26402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FB91A-EFD1-45BF-A0CC-8D98B8BA69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3A257-1E6B-44C9-B5A2-73C1A244CF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D2DC9-4A5B-4783-9E7C-D6E2A6F79A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9ACF0-0F0F-430B-8DB6-9CD070FBE0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FB544-E7D2-486D-92FB-02A80DC494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3B925-5641-4D85-BD93-57811DDC96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F5756-D59E-4F29-91EC-2E353D8107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ppt pg bkgd-1.png"/>
          <p:cNvPicPr/>
          <p:nvPr/>
        </p:nvPicPr>
        <p:blipFill>
          <a:blip r:embed="rId2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293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ppt title pg bkgd-1.png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3"/>
          <p:cNvSpPr/>
          <p:nvPr/>
        </p:nvSpPr>
        <p:spPr>
          <a:xfrm>
            <a:off x="8513640" y="6248520"/>
            <a:ext cx="37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3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Box 8"/>
          <p:cNvSpPr/>
          <p:nvPr/>
        </p:nvSpPr>
        <p:spPr>
          <a:xfrm>
            <a:off x="2616120" y="3056040"/>
            <a:ext cx="39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uccessful Club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9"/>
          <p:cNvSpPr/>
          <p:nvPr/>
        </p:nvSpPr>
        <p:spPr>
          <a:xfrm>
            <a:off x="762120" y="3665520"/>
            <a:ext cx="7619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93f"/>
                </a:solidFill>
                <a:latin typeface="Arial"/>
                <a:ea typeface="Arial"/>
              </a:rPr>
              <a:t>The Toastmasters Educational Progra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676160" y="3123720"/>
            <a:ext cx="65530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spcBef>
                <a:spcPts val="901"/>
              </a:spcBef>
              <a:spcAft>
                <a:spcPts val="1199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hieved the ALB aw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Bef>
                <a:spcPts val="901"/>
              </a:spcBef>
              <a:spcAft>
                <a:spcPts val="1199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rved as a district offic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Bef>
                <a:spcPts val="901"/>
              </a:spcBef>
              <a:spcAft>
                <a:spcPts val="1199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ub sponsor, mentor, or coa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Advanced Leader Silver (ALS)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88" name="TextBox 4"/>
          <p:cNvSpPr/>
          <p:nvPr/>
        </p:nvSpPr>
        <p:spPr>
          <a:xfrm>
            <a:off x="747000" y="2387520"/>
            <a:ext cx="198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93f"/>
                </a:solidFill>
                <a:latin typeface="Arial"/>
                <a:ea typeface="Arial"/>
              </a:rPr>
              <a:t>Eligi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50"/>
                            </p:stCondLst>
                            <p:childTnLst>
                              <p:par>
                                <p:cTn id="241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371240" y="3123720"/>
            <a:ext cx="65530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spcBef>
                <a:spcPts val="901"/>
              </a:spcBef>
              <a:spcAft>
                <a:spcPts val="1199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High Performance Leadershi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2"/>
          <p:cNvSpPr/>
          <p:nvPr/>
        </p:nvSpPr>
        <p:spPr>
          <a:xfrm>
            <a:off x="8458200" y="640080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Advanced Leader Silver (ALS)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755280" y="2387520"/>
            <a:ext cx="355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93f"/>
                </a:solidFill>
                <a:latin typeface="Arial"/>
                <a:ea typeface="Arial"/>
              </a:rPr>
              <a:t>Eligibility </a:t>
            </a:r>
            <a:r>
              <a:rPr b="0" lang="en-US" sz="2200" spc="-1" strike="noStrike">
                <a:solidFill>
                  <a:srgbClr val="00293f"/>
                </a:solidFill>
                <a:latin typeface="Arial"/>
                <a:ea typeface="Arial"/>
              </a:rPr>
              <a:t>(Continued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1757520" y="3733920"/>
            <a:ext cx="64969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Aft>
                <a:spcPts val="1199"/>
              </a:spcAft>
              <a:buClr>
                <a:srgbClr val="0029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Features five projec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spcAft>
                <a:spcPts val="1199"/>
              </a:spcAft>
              <a:buClr>
                <a:srgbClr val="0029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Project can be within or outside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of Toastmaste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spcAft>
                <a:spcPts val="1199"/>
              </a:spcAft>
              <a:buClr>
                <a:srgbClr val="0029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Feedback given throughout the projec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5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904760" y="3047760"/>
            <a:ext cx="510516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spcAft>
                <a:spcPts val="165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chieved the ACG award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165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chieved the ALS award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Distinguished Toastmaster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96" name="Rectangle 12"/>
          <p:cNvSpPr/>
          <p:nvPr/>
        </p:nvSpPr>
        <p:spPr>
          <a:xfrm>
            <a:off x="8458200" y="640080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Box 4"/>
          <p:cNvSpPr/>
          <p:nvPr/>
        </p:nvSpPr>
        <p:spPr>
          <a:xfrm>
            <a:off x="747000" y="2286000"/>
            <a:ext cx="198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93f"/>
                </a:solidFill>
                <a:latin typeface="Arial"/>
                <a:ea typeface="Arial"/>
              </a:rPr>
              <a:t>Eligi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5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6629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Toastmasters </a:t>
            </a:r>
            <a:br>
              <a:rPr sz="3600"/>
            </a:b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Educational Program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99" name="Rectangle 12"/>
          <p:cNvSpPr/>
          <p:nvPr/>
        </p:nvSpPr>
        <p:spPr>
          <a:xfrm>
            <a:off x="8458200" y="640080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Box 4"/>
          <p:cNvSpPr/>
          <p:nvPr/>
        </p:nvSpPr>
        <p:spPr>
          <a:xfrm>
            <a:off x="748080" y="2286000"/>
            <a:ext cx="370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93f"/>
                </a:solidFill>
                <a:latin typeface="Arial"/>
                <a:ea typeface="Arial"/>
              </a:rPr>
              <a:t>What’s your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8" descr="Educ Tracks Chart-blue.pdf"/>
          <p:cNvPicPr/>
          <p:nvPr/>
        </p:nvPicPr>
        <p:blipFill>
          <a:blip r:embed="rId1"/>
          <a:stretch/>
        </p:blipFill>
        <p:spPr>
          <a:xfrm>
            <a:off x="1959120" y="3048120"/>
            <a:ext cx="5225760" cy="304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5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440" y="2641320"/>
            <a:ext cx="7467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spcAft>
                <a:spcPts val="1500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re of the communication trac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1500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 speech projec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1500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vides basic skills needed to present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 effective spee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1500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cognition for achiev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The Communication Track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763920" y="1981080"/>
            <a:ext cx="548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93f"/>
                </a:solidFill>
                <a:latin typeface="Arial"/>
                <a:ea typeface="Arial"/>
              </a:rPr>
              <a:t>Competent Commun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990720" y="2819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spcAft>
                <a:spcPts val="2401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ve speech projects per manu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2401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nuals offer practical experi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685440" y="837720"/>
            <a:ext cx="6553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Advanced Communication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751320" y="1981080"/>
            <a:ext cx="309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93f"/>
                </a:solidFill>
                <a:latin typeface="Arial"/>
                <a:ea typeface="Arial"/>
              </a:rPr>
              <a:t>Beyond the 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5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09120" y="2666520"/>
            <a:ext cx="39625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87280">
              <a:spcAft>
                <a:spcPts val="4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Entertaining Speak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Aft>
                <a:spcPts val="4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eaking to Info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Aft>
                <a:spcPts val="4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blic Rel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Aft>
                <a:spcPts val="4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cilitating Discus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Aft>
                <a:spcPts val="4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ecialty Speech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Aft>
                <a:spcPts val="4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eeches by Manag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Aft>
                <a:spcPts val="4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rofessional Speak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Aft>
                <a:spcPts val="4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chnical Present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Advanced Communication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61" name="TextBox 4"/>
          <p:cNvSpPr/>
          <p:nvPr/>
        </p:nvSpPr>
        <p:spPr>
          <a:xfrm>
            <a:off x="767160" y="1981080"/>
            <a:ext cx="442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93f"/>
                </a:solidFill>
                <a:latin typeface="Arial"/>
                <a:ea typeface="Arial"/>
              </a:rPr>
              <a:t>15 Advanced Manu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4495680" y="2666880"/>
            <a:ext cx="419112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00000"/>
              </a:lnSpc>
              <a:spcAft>
                <a:spcPts val="4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ersuasive Speak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spcAft>
                <a:spcPts val="4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ommunicating on Vide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spcAft>
                <a:spcPts val="4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torytell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spcAft>
                <a:spcPts val="4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nterpretive Read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spcAft>
                <a:spcPts val="4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nterpersonal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ommunic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spcAft>
                <a:spcPts val="4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pecial Occasion Speech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spcAft>
                <a:spcPts val="4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umorously Speak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5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371240" y="3123720"/>
            <a:ext cx="65530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spcBef>
                <a:spcPts val="901"/>
              </a:spcBef>
              <a:spcAft>
                <a:spcPts val="1199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hieved the CC aw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Bef>
                <a:spcPts val="901"/>
              </a:spcBef>
              <a:spcAft>
                <a:spcPts val="1199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leted two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dvanced Communication Serie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nu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2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Advanced Communicator</a:t>
            </a:r>
            <a:br>
              <a:rPr sz="3600"/>
            </a:b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Bronze (ACB)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66" name="TextBox 4"/>
          <p:cNvSpPr/>
          <p:nvPr/>
        </p:nvSpPr>
        <p:spPr>
          <a:xfrm>
            <a:off x="747000" y="2387520"/>
            <a:ext cx="198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93f"/>
                </a:solidFill>
                <a:latin typeface="Arial"/>
                <a:ea typeface="Arial"/>
              </a:rPr>
              <a:t>Eligi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5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371240" y="3123720"/>
            <a:ext cx="655308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spcBef>
                <a:spcPts val="901"/>
              </a:spcBef>
              <a:spcAft>
                <a:spcPts val="1199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hieved ACB aw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Bef>
                <a:spcPts val="901"/>
              </a:spcBef>
              <a:spcAft>
                <a:spcPts val="1199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 additional advanced manu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Bef>
                <a:spcPts val="901"/>
              </a:spcBef>
              <a:spcAft>
                <a:spcPts val="1199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 presentations from </a:t>
            </a:r>
            <a:br>
              <a:rPr sz="3000"/>
            </a:b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The Better Speaker Serie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/or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The Successful Club Ser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2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Advanced Communicator</a:t>
            </a:r>
            <a:br>
              <a:rPr sz="3600"/>
            </a:b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Silver (ACS)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70" name="TextBox 4"/>
          <p:cNvSpPr/>
          <p:nvPr/>
        </p:nvSpPr>
        <p:spPr>
          <a:xfrm>
            <a:off x="747000" y="2387520"/>
            <a:ext cx="198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93f"/>
                </a:solidFill>
                <a:latin typeface="Arial"/>
                <a:ea typeface="Arial"/>
              </a:rPr>
              <a:t>Eligi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5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1371240" y="2971440"/>
            <a:ext cx="65530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lnSpc>
                <a:spcPct val="90000"/>
              </a:lnSpc>
              <a:spcAft>
                <a:spcPts val="601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hieved ACS aw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Aft>
                <a:spcPts val="601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 additional advanced manu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Aft>
                <a:spcPts val="601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Success/Leadership Series, Success/Communication Series,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r a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Youth Leadershi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Aft>
                <a:spcPts val="601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ached a new member with the first three speech projec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2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Advanced Communicator</a:t>
            </a:r>
            <a:br>
              <a:rPr sz="3600"/>
            </a:b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Gold (ACG)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74" name="TextBox 4"/>
          <p:cNvSpPr/>
          <p:nvPr/>
        </p:nvSpPr>
        <p:spPr>
          <a:xfrm>
            <a:off x="747000" y="2387520"/>
            <a:ext cx="198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93f"/>
                </a:solidFill>
                <a:latin typeface="Arial"/>
                <a:ea typeface="Arial"/>
              </a:rPr>
              <a:t>Eligi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5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1409760" y="2743200"/>
            <a:ext cx="781056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spcAft>
                <a:spcPts val="1675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re of the leadership trac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1675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 leadership projec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1675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velops basic skills leaders ne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1675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cognition for achiev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21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Leadership Track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78" name="TextBox 4"/>
          <p:cNvSpPr/>
          <p:nvPr/>
        </p:nvSpPr>
        <p:spPr>
          <a:xfrm>
            <a:off x="1523880" y="213372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93f"/>
                </a:solidFill>
                <a:latin typeface="Arial"/>
                <a:ea typeface="Arial"/>
              </a:rPr>
              <a:t>The Competent Lea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5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1676160" y="2717640"/>
            <a:ext cx="7010280" cy="17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34440" indent="-334440">
              <a:spcAft>
                <a:spcPts val="3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hieved the CL aw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440" indent="-334440">
              <a:spcAft>
                <a:spcPts val="3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hieved the CC aw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440" indent="-334440">
              <a:spcAft>
                <a:spcPts val="3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 months as a club officer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2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Advanced Leader Bronze (ALB)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1204200" y="2133720"/>
            <a:ext cx="198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93f"/>
                </a:solidFill>
                <a:latin typeface="Arial"/>
                <a:ea typeface="Arial"/>
              </a:rPr>
              <a:t>Eligi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Box 9"/>
          <p:cNvSpPr/>
          <p:nvPr/>
        </p:nvSpPr>
        <p:spPr>
          <a:xfrm>
            <a:off x="2057400" y="4191120"/>
            <a:ext cx="5595840" cy="14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10000"/>
              </a:lnSpc>
              <a:buClr>
                <a:srgbClr val="0029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Club Success Pl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110000"/>
              </a:lnSpc>
              <a:buClr>
                <a:srgbClr val="0029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Participated in club officer train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1676520" y="5232240"/>
            <a:ext cx="7010280" cy="12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8520" indent="-398520">
              <a:lnSpc>
                <a:spcPct val="100000"/>
              </a:lnSpc>
              <a:spcAft>
                <a:spcPts val="3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Two presentations from </a:t>
            </a:r>
            <a:br>
              <a:rPr sz="3000"/>
            </a:br>
            <a:r>
              <a:rPr b="0" i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The Successful Club Seri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1T23:17:50Z</dcterms:created>
  <dc:creator>Corey Smith</dc:creator>
  <dc:description/>
  <dc:language>en-US</dc:language>
  <cp:lastModifiedBy>Diana Helms</cp:lastModifiedBy>
  <cp:lastPrinted>2011-04-12T00:16:57Z</cp:lastPrinted>
  <dcterms:modified xsi:type="dcterms:W3CDTF">2011-04-12T00:21:28Z</dcterms:modified>
  <cp:revision>66</cp:revision>
  <dc:subject/>
  <dc:title>PowerPoint Presentation</dc:title>
</cp:coreProperties>
</file>