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B3CB-6507-42E5-834E-F092503AE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DA5D-CFF2-481F-B858-65402C887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9C9F-A283-424D-9C52-D94A7A60E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0079-F86B-4755-9A2A-4770D2D6E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F88A-0538-4D3E-8D23-F2DCBE7DB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66E1-7227-4E39-8E35-306D7FBD7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912C-A46E-47AB-A270-22CF51197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B146-61C2-47B6-81F3-76B29A5CD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5299-BC35-42C1-AFAF-61ACA34DA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2CBA-A51F-4A59-9166-A3EAE6C56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4BBC-EBFF-4BFB-81E3-14D86EA5F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5D8E-36E1-417F-8E01-892A73159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C209-ADEF-496C-8961-A974A5F95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B4A2-8437-44EE-B9F9-B83EB9921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93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3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616120" y="305604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uccessful Club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762120" y="366552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The Toastmasters Educational Progr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676160" y="3123720"/>
            <a:ext cx="6553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Bef>
                <a:spcPts val="901"/>
              </a:spcBef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hieved the ALB aw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901"/>
              </a:spcBef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ed as a district offi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901"/>
              </a:spcBef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ub sponsor, mentor, or coa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Advanced Leader Silver (ALS)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747000" y="238752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Elig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371240" y="31237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Bef>
                <a:spcPts val="901"/>
              </a:spcBef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High Performance Leadersh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8458200" y="64008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Advanced Leader Silver (ALS)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755280" y="2387520"/>
            <a:ext cx="355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Eligibility </a:t>
            </a:r>
            <a:r>
              <a:rPr b="0" lang="en-US" sz="2200" spc="-1" strike="noStrike">
                <a:solidFill>
                  <a:srgbClr val="00293f"/>
                </a:solidFill>
                <a:latin typeface="Arial"/>
                <a:ea typeface="Arial"/>
              </a:rPr>
              <a:t>(Continu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1757520" y="3733920"/>
            <a:ext cx="6496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1199"/>
              </a:spcAft>
              <a:buClr>
                <a:srgbClr val="0029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Features five projec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Aft>
                <a:spcPts val="1199"/>
              </a:spcAft>
              <a:buClr>
                <a:srgbClr val="0029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Project can be within or outside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of Toastmast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Aft>
                <a:spcPts val="1199"/>
              </a:spcAft>
              <a:buClr>
                <a:srgbClr val="0029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Feedback given throughout the projec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904760" y="3047760"/>
            <a:ext cx="510516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165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chieved the ACG awar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65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chieved the ALS awar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Distinguished Toastmaster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8458200" y="64008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747000" y="228600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Elig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6629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Toastmasters 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Educational Program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8458200" y="64008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748080" y="2286000"/>
            <a:ext cx="370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What’s your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8" descr="Educ Tracks Chart-blue.pdf"/>
          <p:cNvPicPr/>
          <p:nvPr/>
        </p:nvPicPr>
        <p:blipFill>
          <a:blip r:embed="rId1"/>
          <a:stretch/>
        </p:blipFill>
        <p:spPr>
          <a:xfrm>
            <a:off x="1959120" y="3048120"/>
            <a:ext cx="5225760" cy="30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5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440" y="264132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of the communication tra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 speech proj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 basic skills needed to present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effective spee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gnition for achiev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The Communication Track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763920" y="1981080"/>
            <a:ext cx="548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Competent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90720" y="2819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24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ve speech projects per manu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4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uals offer practical experi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440" y="837720"/>
            <a:ext cx="6553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Advanced Communication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751320" y="198108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Beyond the 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09120" y="2666520"/>
            <a:ext cx="3962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ntertaining Speak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aking to In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 Re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ilitating Discu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ialty Spee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eches by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fessional Speak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ical Presen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Advanced Communication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767160" y="1981080"/>
            <a:ext cx="442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15 Advanced Manu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4495680" y="2666880"/>
            <a:ext cx="41911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00000"/>
              </a:lnSpc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uasive Spea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mmunicating on Vid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torytel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terpretive Rea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terpersonal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mmun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pecial Occasion Speech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Aft>
                <a:spcPts val="4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umorously Spea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371240" y="3123720"/>
            <a:ext cx="6553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Bef>
                <a:spcPts val="901"/>
              </a:spcBef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hieved the CC aw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901"/>
              </a:spcBef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d two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dvanced Communication Ser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u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Advanced Communicator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Bronze (ACB)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747000" y="238752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Elig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371240" y="3123720"/>
            <a:ext cx="65530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Bef>
                <a:spcPts val="901"/>
              </a:spcBef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hieved ACB aw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901"/>
              </a:spcBef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additional advanced manu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901"/>
              </a:spcBef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presentations from 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e Better Speaker Ser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/or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e Successful Club Se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Advanced Communicator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Silver (ACS)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747000" y="238752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Elig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371240" y="2971440"/>
            <a:ext cx="65530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Aft>
                <a:spcPts val="6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hieved ACS aw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6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additional advanced manu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6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uccess/Leadership Series, Success/Communication Series,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 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outh Leadersh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6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ached a new member with the first three speech proj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Advanced Communicator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Gold (ACG)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747000" y="238752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Elig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409760" y="2743200"/>
            <a:ext cx="78105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1675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of the leadership tra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675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 leadership proj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675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s basic skills leaders ne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675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gnition for achiev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Leadership Track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1523880" y="21337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The Competent 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676160" y="2717640"/>
            <a:ext cx="7010280" cy="17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34440" indent="-334440">
              <a:spcAft>
                <a:spcPts val="3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hieved the CL aw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spcAft>
                <a:spcPts val="3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hieved the CC aw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spcAft>
                <a:spcPts val="3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 months as a club officer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Advanced Leader Bronze (ALB)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1204200" y="213372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Elig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9"/>
          <p:cNvSpPr/>
          <p:nvPr/>
        </p:nvSpPr>
        <p:spPr>
          <a:xfrm>
            <a:off x="2057400" y="4191120"/>
            <a:ext cx="559584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10000"/>
              </a:lnSpc>
              <a:buClr>
                <a:srgbClr val="0029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lub Success Pl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10000"/>
              </a:lnSpc>
              <a:buClr>
                <a:srgbClr val="0029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Participated in club officer train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676520" y="5232240"/>
            <a:ext cx="701028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8520" indent="-398520">
              <a:lnSpc>
                <a:spcPct val="100000"/>
              </a:lnSpc>
              <a:spcAft>
                <a:spcPts val="3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wo presentations from 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Successful Club Ser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23:17:50Z</dcterms:created>
  <dc:creator>Corey Smith</dc:creator>
  <dc:description/>
  <dc:language>en-US</dc:language>
  <cp:lastModifiedBy>Diana Helms</cp:lastModifiedBy>
  <cp:lastPrinted>2011-04-12T00:16:57Z</cp:lastPrinted>
  <dcterms:modified xsi:type="dcterms:W3CDTF">2011-04-12T00:21:28Z</dcterms:modified>
  <cp:revision>66</cp:revision>
  <dc:subject/>
  <dc:title>PowerPoint Presentation</dc:title>
</cp:coreProperties>
</file>