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B8C-4D79-4E3C-810E-F8276CEFD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E4C-2947-4D76-B737-50617CD65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DF0A-53B3-4897-ADB7-BDDFE0270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9836-0BC2-4CD6-8387-631804D5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E8F1-2036-434A-ADCC-F707F404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7FF-E53D-4522-89D3-DBC88639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A23-5F8D-4FEB-B531-957B61157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45ED-57C7-4EB4-917E-6D3B8A20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1AEB-7C67-42E0-A851-EC9DDAA75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C71-DA77-4A30-AD6E-F1F1313C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6D77-D3D2-47A9-BD85-0639FEE1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3014-1BBC-481D-8604-8B159080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701000" y="3665520"/>
            <a:ext cx="57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How to Be a 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95280" y="31237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 educational 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trained as a club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 the officer list by the d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 To attain Distinguished Stat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393560" y="2570040"/>
            <a:ext cx="39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Every member mu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person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ed =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Everyone Benefi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143000" y="189864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Educational Awards Issued For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806480" y="2743200"/>
            <a:ext cx="5531040" cy="3225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t year end (June 30), a club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should have at least 20 me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net growth</a:t>
            </a: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 of at least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five new memb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073520" y="1898640"/>
            <a:ext cx="435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Membership Grow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9984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ore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more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um of four club officers trained during each of two training peri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or April renewal repor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ub officer list submitted 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ogn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79280" y="1974960"/>
            <a:ext cx="542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 Go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ist.Goals.pdf"/>
          <p:cNvPicPr/>
          <p:nvPr/>
        </p:nvPicPr>
        <p:blipFill>
          <a:blip r:embed="rId1"/>
          <a:stretch/>
        </p:blipFill>
        <p:spPr>
          <a:xfrm>
            <a:off x="1962000" y="2743200"/>
            <a:ext cx="522000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90920" y="3200400"/>
            <a:ext cx="5867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ub Success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Distinguished Club Program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nd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87680" y="2432160"/>
            <a:ext cx="243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It expl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s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799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s determine how a club can meet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a club to set additional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tlines strategies for achieving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ies resources a club may use to help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dditional space to write in assignments, develop a timetable, and track accomplish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5800" y="1898640"/>
            <a:ext cx="220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The Plan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064160" y="1898640"/>
            <a:ext cx="4159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What’s In It for M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09480" y="3048120"/>
            <a:ext cx="795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healthy club mea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lthy me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437200" y="480060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1428"/>
                </a:solidFill>
                <a:latin typeface="Arial"/>
                <a:ea typeface="Arial"/>
              </a:rPr>
              <a:t>THIS MEANS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8:33:41Z</dcterms:created>
  <dc:creator>Corey Smith</dc:creator>
  <dc:description/>
  <dc:language>en-US</dc:language>
  <cp:lastModifiedBy>Diana Helms</cp:lastModifiedBy>
  <cp:lastPrinted>2011-03-29T15:08:38Z</cp:lastPrinted>
  <dcterms:modified xsi:type="dcterms:W3CDTF">2011-04-04T16:36:29Z</dcterms:modified>
  <cp:revision>61</cp:revision>
  <dc:subject/>
  <dc:title>PowerPoint Presentation</dc:title>
</cp:coreProperties>
</file>