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DF9-E167-42D3-9B23-2B4A9DDD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3B0-9687-4830-8B98-3C0695A4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8CD-F92B-4B85-89D3-E149094D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CF03-5B7F-4871-9A48-9D23E2864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5DD2-6BCA-4629-AEB4-8F3EDAC9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A37-D074-40AD-B637-49BFDCBA7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E1B9-BA97-4885-B469-D069C6F1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394360" y="3665520"/>
            <a:ext cx="43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Going Beyo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est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mc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666880" y="205704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ri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Opportun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4284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ech Cont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arader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ferences and Conven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offer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ake advantage of the learning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and leadership options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oastmasters prov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4:55:27Z</dcterms:created>
  <dc:creator>Corey Smith</dc:creator>
  <dc:description/>
  <dc:language>en-US</dc:language>
  <cp:lastModifiedBy>Diana Helms</cp:lastModifiedBy>
  <cp:lastPrinted>2011-03-28T15:28:16Z</cp:lastPrinted>
  <dcterms:modified xsi:type="dcterms:W3CDTF">2011-04-04T16:22:18Z</dcterms:modified>
  <cp:revision>58</cp:revision>
  <dc:subject/>
  <dc:title>PowerPoint Presentation</dc:title>
</cp:coreProperties>
</file>