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B4B6-968E-4387-890C-C8405FA8E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6035-0299-4833-A32A-11C050961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613B-FC46-4AF0-8A82-682249245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DE63-FFA1-46C1-A0EE-DCA9CAAEE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F7D6-F1D6-44DA-8C2C-77A0DBC25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E6E2-A1B6-488D-B282-25CA52794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6037-BE1C-448A-810D-3CC1FF3CE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394360" y="3665520"/>
            <a:ext cx="434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Going Beyond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Our Clu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971440" y="2133720"/>
            <a:ext cx="4419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est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mce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837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ud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peech Contest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4320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rgeant at ar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8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peech Contest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666880" y="2057040"/>
            <a:ext cx="6096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r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stri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Leadership Opportuniti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42840" y="2362320"/>
            <a:ext cx="6095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min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peech Conte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2701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maraderi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ferences and Convent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offer…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0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Take advantage of the learning </a:t>
            </a:r>
            <a:br>
              <a:rPr sz="4000"/>
            </a:b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and leadership options </a:t>
            </a:r>
            <a:br>
              <a:rPr sz="4000"/>
            </a:b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Toastmasters provi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4:55:27Z</dcterms:created>
  <dc:creator>Corey Smith</dc:creator>
  <dc:description/>
  <dc:language>en-US</dc:language>
  <cp:lastModifiedBy>Diana Helms</cp:lastModifiedBy>
  <cp:lastPrinted>2011-03-28T15:28:16Z</cp:lastPrinted>
  <dcterms:modified xsi:type="dcterms:W3CDTF">2011-04-04T16:22:18Z</dcterms:modified>
  <cp:revision>58</cp:revision>
  <dc:subject/>
  <dc:title>PowerPoint Presentation</dc:title>
</cp:coreProperties>
</file>