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AAEF-420E-4E8C-BFD9-B44BA8AAE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762D-D3BC-4DED-ACF9-3CDB7796F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4750-9584-4350-BA1F-AE9062DF5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2ECB-C363-4FD3-90C6-D416FB8BA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7D65-F54D-4ACF-95A3-E1263CAD9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612160" y="3665520"/>
            <a:ext cx="390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Keeping the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Commit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6095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ending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fully preparing spee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filling all assign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participate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ing helpful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ting a positive, friendly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ng as an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ing members &amp; guests with respect and court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aid fellowship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52480" y="2469960"/>
            <a:ext cx="647712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nging g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ing guidelines and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ing ethical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maintain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quality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5:03:50Z</dcterms:created>
  <dc:creator>Corey Smith</dc:creator>
  <dc:description/>
  <dc:language>en-US</dc:language>
  <cp:lastModifiedBy>Diana Helms</cp:lastModifiedBy>
  <cp:lastPrinted>2011-03-07T22:20:14Z</cp:lastPrinted>
  <dcterms:modified xsi:type="dcterms:W3CDTF">2011-04-04T16:17:37Z</dcterms:modified>
  <cp:revision>59</cp:revision>
  <dc:subject/>
  <dc:title>PowerPoint Presentation</dc:title>
</cp:coreProperties>
</file>