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F286-3334-44EC-9044-CE95BED8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D7B-0B22-4637-80C1-E0BFE72BC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B3B4-4A3A-4271-93E4-32760AED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3230-25D8-4CE1-89A8-98215ECBA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4049-3634-4593-B4C9-2F678746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12160" y="3665520"/>
            <a:ext cx="39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Keeping the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ommi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ding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preparing spee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filling all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participate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helpful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ng a positive, friendly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ng as an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members &amp; guests with respect and court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aid fellowship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480" y="246996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ing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guidelines an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ing ethic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maintain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quality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03:50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7:37Z</dcterms:modified>
  <cp:revision>59</cp:revision>
  <dc:subject/>
  <dc:title>PowerPoint Presentation</dc:title>
</cp:coreProperties>
</file>