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94AC-65DA-4387-9631-FE3A2FE4E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BEF9-613D-417A-9292-41C9304B1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D6E7-426D-4985-9584-8FE227B82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7828-90AE-4549-851B-E1BD0A222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4D67-7AA2-48E1-85D6-571CD0A53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8A0E-83AC-4A46-A7BD-E9E381B5F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8FB9-E6E1-47E5-AAD1-7CD71E225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C286-F9F4-4C3D-A54E-AED5C5A08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1A13-C5F3-40DC-94B3-78C7EB219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339B-6A0F-4445-8B11-D6BF49B63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5681-6E0C-4413-96D4-39FB3F1F6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9D64-C3E0-467E-ABEC-E9B650CB2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AE78-94A4-4E9F-89CD-DFA7E605A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6560-6B3D-4F4F-969D-A52FB5602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3003120" y="3665520"/>
            <a:ext cx="312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Mento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676520" y="251424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l how you have benefi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e the mentee to other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knowledge progr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officers’ du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speech conte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organ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Mentoring Step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600200" y="188424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ver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666880" y="2514240"/>
            <a:ext cx="4648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ger to lea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p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to new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y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tefu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381880" y="6400800"/>
            <a:ext cx="3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Qualities of Mente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209680" y="188424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ntees should b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143000" y="2819520"/>
            <a:ext cx="6858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</a:rPr>
              <a:t>It should not last forever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 Finite Relationship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438280" y="198108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Experien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        </a:t>
            </a: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Lear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               </a:t>
            </a:r>
            <a:r>
              <a:rPr b="1" i="1" lang="en-US" sz="4800" spc="-1" strike="noStrike">
                <a:solidFill>
                  <a:srgbClr val="00293f"/>
                </a:solidFill>
                <a:latin typeface="Arial"/>
              </a:rPr>
              <a:t>Benef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5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5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s a personal interest and hel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es as a role model, coach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confida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ers knowledge, insight, perspective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wisd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Aft>
                <a:spcPts val="1500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someone become successfu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What is a Mentor?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066680" y="188424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mento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3880" y="20574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the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club standards and cus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conf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e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ickly learn speaking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Easing the Transit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09680" y="2839680"/>
            <a:ext cx="5943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rther refine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new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Developing Special Skill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828800" y="205740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re experienced memb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057040" y="228600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from their ment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ain produ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something for ot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210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ive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Benefits to Mentor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6000" y="23619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satisfied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er member reten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Benefits to Club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343040" y="22093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uppor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Knowledge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good listen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Mentor Qualiti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371600" y="2209680"/>
            <a:ext cx="2895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vaila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Pati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Sensitiv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Respectfu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26"/>
              </a:spcBef>
              <a:spcAft>
                <a:spcPts val="108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Flexi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057040" y="259092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 with the new m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 the new member to club customs and proced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o sign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spcAft>
                <a:spcPts val="19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with the Ice Br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Mentoring Step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523880" y="1884240"/>
            <a:ext cx="403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First Mee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5640" y="2590560"/>
            <a:ext cx="5334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mentees awar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resour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positive feedbac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responsibil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 with speeches 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assignm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Mentoring Step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600200" y="188424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Next Mee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5:22:13Z</dcterms:created>
  <dc:creator>Corey Smith</dc:creator>
  <dc:description/>
  <dc:language>en-US</dc:language>
  <cp:lastModifiedBy>Diana Helms</cp:lastModifiedBy>
  <cp:lastPrinted>2011-03-07T22:20:14Z</cp:lastPrinted>
  <dcterms:modified xsi:type="dcterms:W3CDTF">2011-04-04T16:14:31Z</dcterms:modified>
  <cp:revision>62</cp:revision>
  <dc:subject/>
  <dc:title>PowerPoint Presentation</dc:title>
</cp:coreProperties>
</file>