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5C7-D53F-400C-9B8D-BC57F94E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8547-3604-4A02-B6C3-9207CE5F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00D7-8158-4F75-A051-8D66825E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1EF8-4EB1-47F9-B44E-E4313505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F5A5-A119-45FB-ACF4-7D32E1045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16D-B677-44D8-934D-6AD93F90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28600" y="36115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Meeting Roles and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Respon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ssigned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ast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ics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Evalu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4"/>
          <p:cNvSpPr/>
          <p:nvPr/>
        </p:nvSpPr>
        <p:spPr>
          <a:xfrm>
            <a:off x="47242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ch Evalu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i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ammar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h-Cou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2320" y="213336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er of Inv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kem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Cou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925"/>
              </a:spcBef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liamenta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dditional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4760" y="1904760"/>
            <a:ext cx="6476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geant at A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Public Re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ce President Memb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su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Officers’ Meeting Role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293f"/>
                </a:solidFill>
                <a:latin typeface="Arial"/>
              </a:rPr>
              <a:t>Coming together is a beginning. Keeping together is progress. Working together is succes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Henry Ford, American Industrialist;</a:t>
            </a:r>
            <a:br>
              <a:rPr sz="2800"/>
            </a:b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pioneer of the assembly-line produ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04:21Z</dcterms:created>
  <dc:creator>Corey Smith</dc:creator>
  <dc:description/>
  <dc:language>en-US</dc:language>
  <cp:lastModifiedBy>Diana Helms</cp:lastModifiedBy>
  <cp:lastPrinted>2011-03-24T21:19:41Z</cp:lastPrinted>
  <dcterms:modified xsi:type="dcterms:W3CDTF">2011-04-04T16:10:24Z</dcterms:modified>
  <cp:revision>64</cp:revision>
  <dc:subject/>
  <dc:title>PowerPoint Presentation</dc:title>
</cp:coreProperties>
</file>