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97E6-6B88-469A-949E-701ED222B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348D-21F7-42EB-A993-348231CDC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8A01-1352-4761-AF0D-B6F1D9FE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EDD2-9843-4F22-B89A-B540DF99F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88BD-2ECB-4786-B2FC-E340F705D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DD4E-509C-4F60-9736-56644B767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C42E-5238-49FA-93E9-43AD4596E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6FF1-BB47-4AC5-B4E8-71B0FE8EE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5C3F-ADA9-4CFC-9618-64BAD5607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4365-6A2D-4DC9-9CE0-937FE491A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2EA3-5F0A-4892-8A8E-87A1425F1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D6DB-0EA3-4718-A911-CEB6BC251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EEE2-E827-4C96-9EC8-28922370C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8CE0-2E39-49BB-810A-20FFE02F3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762120" y="36655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The Toastmasters Educational Progr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676160" y="312372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the ALB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d as a district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ub sponsor, mentor, or c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Leader Silver (ALS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747000" y="23875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240" y="31237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igh Performance 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8458200" y="6400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Leader Silver (ALS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755280" y="2387520"/>
            <a:ext cx="35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 </a:t>
            </a:r>
            <a:r>
              <a:rPr b="0" lang="en-US" sz="2200" spc="-1" strike="noStrike">
                <a:solidFill>
                  <a:srgbClr val="00293f"/>
                </a:solidFill>
                <a:latin typeface="Arial"/>
                <a:ea typeface="Arial"/>
              </a:rPr>
              <a:t>(Continu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757520" y="3733920"/>
            <a:ext cx="6496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1199"/>
              </a:spcAft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eatures five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1199"/>
              </a:spcAft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can be within or outsid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f Toastmast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1199"/>
              </a:spcAft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eedback given throughout the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04760" y="3047760"/>
            <a:ext cx="51051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65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chieved the ACG awar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65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chieved the ALS awar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Distinguished Toastmaster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8458200" y="6400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747000" y="228600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662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oastmasters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ducational Program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8458200" y="6400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748080" y="22860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What’s your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Educ Tracks Chart-blue.pdf"/>
          <p:cNvPicPr/>
          <p:nvPr/>
        </p:nvPicPr>
        <p:blipFill>
          <a:blip r:embed="rId1"/>
          <a:stretch/>
        </p:blipFill>
        <p:spPr>
          <a:xfrm>
            <a:off x="1959120" y="3048120"/>
            <a:ext cx="522576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440" y="26413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of the communication tr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 speech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basic skills needed to presen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ffective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tion for achie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Communication Track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763920" y="1981080"/>
            <a:ext cx="54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Competent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90720" y="2819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4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ve speech projects per man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4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uals offer practical 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751320" y="19810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Beyond the 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120" y="2666520"/>
            <a:ext cx="3962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tertaining Spea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aking to In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ting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alty Spee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eches by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fessional Spea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Presen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767160" y="1981080"/>
            <a:ext cx="44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15 Advanced Man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495680" y="2666880"/>
            <a:ext cx="4191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uasive Spea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municating on Vid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orytel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erpretive R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erperson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ecial Occasion Spee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umorously Spea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71240" y="312372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the CC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d tw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dvanced Communication Ser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or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Bronze (ACB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747000" y="23875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371240" y="3123720"/>
            <a:ext cx="6553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ACB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additional advanced man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resentations from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Better Speaker Ser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/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Successful Club S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or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ilver (ACS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747000" y="23875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371240" y="2971440"/>
            <a:ext cx="6553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ACS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additional advanced man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uccess/Leadership Series, Success/Communication Series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outh 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ached a new member with the first three speech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or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Gold (ACG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747000" y="23875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409760" y="2743200"/>
            <a:ext cx="7810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675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of the leadership tr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675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 leadership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675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s basic skills leaders n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675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tion for achie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Leadership Track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23880" y="21337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The Competent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676160" y="2717640"/>
            <a:ext cx="7010280" cy="17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34440" indent="-334440">
              <a:spcAft>
                <a:spcPts val="3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the CL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Aft>
                <a:spcPts val="3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the CC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Aft>
                <a:spcPts val="3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 months as a club office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Leader Bronze (ALB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204200" y="21337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2057400" y="4191120"/>
            <a:ext cx="55958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10000"/>
              </a:lnSpc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lub Success Pl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10000"/>
              </a:lnSpc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articipated in club officer trai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676520" y="5232240"/>
            <a:ext cx="701028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100000"/>
              </a:lnSpc>
              <a:spcAft>
                <a:spcPts val="3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wo presentations from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23:17:50Z</dcterms:created>
  <dc:creator>Corey Smith</dc:creator>
  <dc:description/>
  <dc:language>en-US</dc:language>
  <cp:lastModifiedBy>Diana Helms</cp:lastModifiedBy>
  <cp:lastPrinted>2011-04-12T00:16:57Z</cp:lastPrinted>
  <dcterms:modified xsi:type="dcterms:W3CDTF">2011-04-12T00:21:28Z</dcterms:modified>
  <cp:revision>66</cp:revision>
  <dc:subject/>
  <dc:title>PowerPoint Presentation</dc:title>
</cp:coreProperties>
</file>