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2D4D-88D6-40A2-BD12-1B5608F51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BA8E-AB40-454B-87F1-A206B0EDB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F35E-A3CA-4238-A664-CD1210786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2436-9866-4357-9AC4-4E0F12FB2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AA41-FFEA-4ADF-B500-0B1864DF1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5EA-2B6D-4A58-809F-3F164AFD1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ECF7-916E-4304-B316-A3AF3C996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C21-599E-43C7-AFF2-3F438E59E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FFE0-C1DD-4BFD-82EE-0087D7DFE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06E9-D406-47E1-AB02-97132EFF2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3C9F-511F-4C96-BF22-9AB374279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18F1-86F8-401C-8BB4-36DC3851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701000" y="3665520"/>
            <a:ext cx="572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How to Be a 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Distinguished Clu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295280" y="3123720"/>
            <a:ext cx="7315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new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hieve educational aw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trained as a club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199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mit the officer list by the dead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     To attain Distinguished Statu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393560" y="2570040"/>
            <a:ext cx="394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93f"/>
                </a:solidFill>
                <a:latin typeface="Arial"/>
                <a:ea typeface="Arial"/>
              </a:rPr>
              <a:t>Every member mus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066680" y="2514240"/>
            <a:ext cx="7925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mbers = New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 members = New persona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al growth = Improved spea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tional growth = Improved leadersh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ed = Recog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458200" y="64008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onclusion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    Everyone Benefit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143000" y="1898640"/>
            <a:ext cx="6858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Educational Awards Issued For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Educ Tracks Chart-blue.pdf"/>
          <p:cNvPicPr/>
          <p:nvPr/>
        </p:nvPicPr>
        <p:blipFill>
          <a:blip r:embed="rId1"/>
          <a:stretch/>
        </p:blipFill>
        <p:spPr>
          <a:xfrm>
            <a:off x="1806480" y="2743200"/>
            <a:ext cx="5531040" cy="3225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Aft>
                <a:spcPts val="10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At year end (June 30), a club </a:t>
            </a:r>
            <a:br>
              <a:rPr sz="3400"/>
            </a:b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should have at least 20 memb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10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</a:rPr>
              <a:t>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Aft>
                <a:spcPts val="10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A </a:t>
            </a:r>
            <a:r>
              <a:rPr b="1" lang="en-US" sz="3400" spc="-1" strike="noStrike">
                <a:solidFill>
                  <a:srgbClr val="00293f"/>
                </a:solidFill>
                <a:latin typeface="Arial"/>
              </a:rPr>
              <a:t>net growth</a:t>
            </a: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 of at least </a:t>
            </a:r>
            <a:br>
              <a:rPr sz="3400"/>
            </a:br>
            <a:r>
              <a:rPr b="0" lang="en-US" sz="3400" spc="-1" strike="noStrike">
                <a:solidFill>
                  <a:srgbClr val="00293f"/>
                </a:solidFill>
                <a:latin typeface="Arial"/>
              </a:rPr>
              <a:t>five new membe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073520" y="1898640"/>
            <a:ext cx="4350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Membership Grow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9984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C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more C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ACB, ACS, or A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more ACB, ACS, or AC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L, ALB, ALS, or D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more CL, ALB, ALS, or DT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440" y="837720"/>
            <a:ext cx="6553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10 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66680" y="201312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new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 more new me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um of four club officers trained during each of two training peri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or April renewal repor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club officer list submitted o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10 Club Goals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Recogni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079280" y="1974960"/>
            <a:ext cx="5429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Distinguished Club Goa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Dist.Goals.pdf"/>
          <p:cNvPicPr/>
          <p:nvPr/>
        </p:nvPicPr>
        <p:blipFill>
          <a:blip r:embed="rId1"/>
          <a:stretch/>
        </p:blipFill>
        <p:spPr>
          <a:xfrm>
            <a:off x="1962000" y="2743200"/>
            <a:ext cx="522000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90920" y="3200400"/>
            <a:ext cx="58672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276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lub Success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Distinguished Club Program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and Club Success Pla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587680" y="2432160"/>
            <a:ext cx="243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It expl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sts the 10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799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lps determine how a club can meet the 10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ws a club to set additional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utlines strategies for achieving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ies resources a club may use to help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hieve go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5000"/>
              </a:lnSpc>
              <a:spcBef>
                <a:spcPts val="1250"/>
              </a:spcBef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additional space to write in assignments, develop a timetable, and track accomplishment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The Club Success Pla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85800" y="1898640"/>
            <a:ext cx="220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The Plan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4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064160" y="1898640"/>
            <a:ext cx="4159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93f"/>
                </a:solidFill>
                <a:latin typeface="Arial"/>
                <a:ea typeface="Arial"/>
              </a:rPr>
              <a:t>What’s In It for M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609480" y="3048120"/>
            <a:ext cx="795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 healthy club mea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healthy memb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2437200" y="4800600"/>
            <a:ext cx="42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5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1428"/>
                </a:solidFill>
                <a:latin typeface="Arial"/>
                <a:ea typeface="Arial"/>
              </a:rPr>
              <a:t>THIS MEANS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18:33:41Z</dcterms:created>
  <dc:creator>Corey Smith</dc:creator>
  <dc:description/>
  <dc:language>en-US</dc:language>
  <cp:lastModifiedBy>Diana Helms</cp:lastModifiedBy>
  <cp:lastPrinted>2011-03-29T15:08:38Z</cp:lastPrinted>
  <dcterms:modified xsi:type="dcterms:W3CDTF">2011-04-04T16:36:29Z</dcterms:modified>
  <cp:revision>61</cp:revision>
  <dc:subject/>
  <dc:title>PowerPoint Presentation</dc:title>
</cp:coreProperties>
</file>