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AA55-9803-4F0F-A8EB-549BD1957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F9F1-07AA-4A32-903F-53B45ED7D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0B6B-137E-4762-BABF-89FB6414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A28B-ABC8-43EF-8859-A9DA64485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C379-5DB1-466B-87BE-5F9CFE055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B43A-DAEF-4515-8B7D-C405CC24C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6E89-2E16-4C45-A1EA-C8A0DF11E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3C9-F97A-437E-8E90-53C9D27B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1BC0-AF1F-4E09-B444-67936C3E1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C9A9-F7BE-4305-A5A4-C789BF154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D9A9-A4FC-421F-AE00-4CA871B14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7274-AA3C-4EB4-B002-0012EDE8B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701000" y="3665520"/>
            <a:ext cx="572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How to Be a 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Distinguished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95280" y="312372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new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 educational a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trained as a club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 the officer list by the dead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     To attain Distinguished Statu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393560" y="2570040"/>
            <a:ext cx="394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Every member mu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66680" y="2514240"/>
            <a:ext cx="7925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mbers = New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mbers = New persona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al growth = Improved sp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al growth = Improved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ed =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    Everyone Benefit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143000" y="1898640"/>
            <a:ext cx="685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Educational Awards Issued For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Educ Tracks Chart-blue.pdf"/>
          <p:cNvPicPr/>
          <p:nvPr/>
        </p:nvPicPr>
        <p:blipFill>
          <a:blip r:embed="rId1"/>
          <a:stretch/>
        </p:blipFill>
        <p:spPr>
          <a:xfrm>
            <a:off x="1806480" y="2743200"/>
            <a:ext cx="5531040" cy="3225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Aft>
                <a:spcPts val="10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At year end (June 30), a club </a:t>
            </a:r>
            <a:br>
              <a:rPr sz="3400"/>
            </a:b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should have at least 20 memb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10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</a:rPr>
              <a:t>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10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00293f"/>
                </a:solidFill>
                <a:latin typeface="Arial"/>
              </a:rPr>
              <a:t>net growth</a:t>
            </a: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 of at least </a:t>
            </a:r>
            <a:br>
              <a:rPr sz="3400"/>
            </a:b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five new membe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073520" y="1898640"/>
            <a:ext cx="435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Membership Grow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9984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C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ore C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ACB, ACS, or A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more ACB, ACS, or A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L, ALB, ALS, or D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more CL, ALB, ALS, or D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10 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6668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new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more new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um of four club officers trained during each of two training peri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or April renewal repor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lub officer list submitted o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10 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Recogni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079280" y="1974960"/>
            <a:ext cx="542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Distinguished Club Goa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Dist.Goals.pdf"/>
          <p:cNvPicPr/>
          <p:nvPr/>
        </p:nvPicPr>
        <p:blipFill>
          <a:blip r:embed="rId1"/>
          <a:stretch/>
        </p:blipFill>
        <p:spPr>
          <a:xfrm>
            <a:off x="1962000" y="2743200"/>
            <a:ext cx="522000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90920" y="3200400"/>
            <a:ext cx="5867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ub Success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Distinguished Club Program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nd Club Success Pla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587680" y="2432160"/>
            <a:ext cx="243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It expl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s the 10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799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s determine how a club can meet the 10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s a club to set additional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utlines strategies for achieving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ies resources a club may use to help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hieve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additional space to write in assignments, develop a timetable, and track accomplishm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Club Success Pla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85800" y="1898640"/>
            <a:ext cx="220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The Plan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4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064160" y="1898640"/>
            <a:ext cx="4159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What’s In It for M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609480" y="3048120"/>
            <a:ext cx="795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healthy club mea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althy me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437200" y="480060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1428"/>
                </a:solidFill>
                <a:latin typeface="Arial"/>
                <a:ea typeface="Arial"/>
              </a:rPr>
              <a:t>THIS MEANS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8:33:41Z</dcterms:created>
  <dc:creator>Corey Smith</dc:creator>
  <dc:description/>
  <dc:language>en-US</dc:language>
  <cp:lastModifiedBy>Diana Helms</cp:lastModifiedBy>
  <cp:lastPrinted>2011-03-29T15:08:38Z</cp:lastPrinted>
  <dcterms:modified xsi:type="dcterms:W3CDTF">2011-04-04T16:36:29Z</dcterms:modified>
  <cp:revision>61</cp:revision>
  <dc:subject/>
  <dc:title>PowerPoint Presentation</dc:title>
</cp:coreProperties>
</file>