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C0DC-07E1-4463-AF66-E0900F663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7A8F-40F9-4532-835F-CE8DD915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DC7A-53F7-4FE1-B68D-7CCD4F54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5C79-736A-4AE0-9247-16DBEAFB1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8AF-0A04-401E-B406-B0F82D106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7744-36CC-43C8-8752-E4D016C21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E0A9-F172-49A6-965F-FD15E3825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394360" y="3665520"/>
            <a:ext cx="434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Going Beyo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71440" y="213372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est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mc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d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666880" y="205704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ri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Opportun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4284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ech Conte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arader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ferences and Conven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offer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ake advantage of the learning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and leadership options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oastmasters prov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4:55:27Z</dcterms:created>
  <dc:creator>Corey Smith</dc:creator>
  <dc:description/>
  <dc:language>en-US</dc:language>
  <cp:lastModifiedBy>Diana Helms</cp:lastModifiedBy>
  <cp:lastPrinted>2011-03-28T15:28:16Z</cp:lastPrinted>
  <dcterms:modified xsi:type="dcterms:W3CDTF">2011-04-04T16:22:18Z</dcterms:modified>
  <cp:revision>58</cp:revision>
  <dc:subject/>
  <dc:title>PowerPoint Presentation</dc:title>
</cp:coreProperties>
</file>