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1DF6-9CD4-45C2-A2F2-3785830B1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F2D2-D7D3-4C51-97E4-E5AA01F5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9FDD-C38E-4200-A68C-A1FDF82F6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A75C-8128-4C70-A100-D8B73387C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D8B8-554C-4775-B30D-707A723E8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612160" y="3665520"/>
            <a:ext cx="390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Keeping the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ommit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ending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fully preparing spee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filling all assign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participate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helpful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ing a positive, friendly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ng as an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ing members &amp; guests with respect and court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aid fellowship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52480" y="2469960"/>
            <a:ext cx="647712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ging g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ing guidelines and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ing ethic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maintain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quality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5:03:50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17:37Z</dcterms:modified>
  <cp:revision>59</cp:revision>
  <dc:subject/>
  <dc:title>PowerPoint Presentation</dc:title>
</cp:coreProperties>
</file>