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2189-5FE3-4015-85BC-B18C7F33F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CB18-B69C-4DA5-8D6B-C9B353203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F873-66FC-4FAA-B59E-443BB626B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4CE0-3D6A-4C30-9613-09E69C52A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1E6A-ED84-4AF5-A5A7-16045B38E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ppt pg bkgd-1.png"/>
          <p:cNvPicPr/>
          <p:nvPr/>
        </p:nvPicPr>
        <p:blipFill>
          <a:blip r:embed="rId2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93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293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293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ppt title pg bkgd-1.pn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3"/>
          <p:cNvSpPr/>
          <p:nvPr/>
        </p:nvSpPr>
        <p:spPr>
          <a:xfrm>
            <a:off x="8513640" y="6248520"/>
            <a:ext cx="37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29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616120" y="305604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uccessful Club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2612160" y="3665520"/>
            <a:ext cx="390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Keeping the</a:t>
            </a:r>
            <a:br>
              <a:rPr sz="4800"/>
            </a:br>
            <a:r>
              <a:rPr b="1" lang="en-US" sz="4800" spc="-1" strike="noStrike">
                <a:solidFill>
                  <a:srgbClr val="00293f"/>
                </a:solidFill>
                <a:latin typeface="Arial"/>
                <a:ea typeface="Arial"/>
              </a:rPr>
              <a:t>Commit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599840" y="2057040"/>
            <a:ext cx="60958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2038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tending regula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2038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efully preparing speech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2038"/>
              </a:spcAft>
              <a:buClr>
                <a:srgbClr val="b9142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lfilling all assign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I promise to participate by: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9480" y="21333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ing helpful eval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moting a positive, friendly environ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ng as an offic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18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eating members &amp; guests with respect and courtes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837720"/>
            <a:ext cx="6934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I promise to aid fellowship by: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752480" y="2469960"/>
            <a:ext cx="6477120" cy="33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spcAft>
                <a:spcPts val="21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inging gu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1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llowing guidelines and ru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spcAft>
                <a:spcPts val="2100"/>
              </a:spcAft>
              <a:buClr>
                <a:srgbClr val="af002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serving ethical stand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8458200" y="6400800"/>
            <a:ext cx="2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I promise to maintain </a:t>
            </a:r>
            <a:br>
              <a:rPr sz="3600"/>
            </a:br>
            <a:r>
              <a:rPr b="1" lang="en-US" sz="3600" spc="-1" strike="noStrike">
                <a:solidFill>
                  <a:srgbClr val="00293f"/>
                </a:solidFill>
                <a:latin typeface="Arial"/>
              </a:rPr>
              <a:t>club quality by:</a:t>
            </a:r>
            <a:endParaRPr b="1" lang="en-US" sz="3600" spc="-1" strike="noStrike">
              <a:solidFill>
                <a:srgbClr val="00293f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15:03:50Z</dcterms:created>
  <dc:creator>Corey Smith</dc:creator>
  <dc:description/>
  <dc:language>en-US</dc:language>
  <cp:lastModifiedBy>Diana Helms</cp:lastModifiedBy>
  <cp:lastPrinted>2011-03-07T22:20:14Z</cp:lastPrinted>
  <dcterms:modified xsi:type="dcterms:W3CDTF">2011-04-04T16:17:37Z</dcterms:modified>
  <cp:revision>59</cp:revision>
  <dc:subject/>
  <dc:title>PowerPoint Presentation</dc:title>
</cp:coreProperties>
</file>