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93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EB8BC-6529-4349-89DC-D252895C2C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776CD-FE9E-410E-B3B7-B8F931593C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485A5-C619-4CC8-A080-287C275D32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B8C00-924E-4A01-845B-02F30A19BC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FD2C8-3F12-44F5-9F62-DD0BF49370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55AC5-F3B4-4FB8-B741-226B042401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BD196-DA43-4B55-905A-4F2974113E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A74E3-0FDE-478E-8C3F-60BA7D191D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75A72-3A2A-498C-B1CE-D4A1178A13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63EB0-8557-4E8E-B47C-6D3475FA23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09EEA-4935-4246-BFDA-16D63C879A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3C955-C9F0-4477-83A8-A6A60C4CDE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269D0-E2EB-444B-8DD4-21C9955300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A7B6F-6302-441A-989D-9053AAD3A9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ppt pg bkgd-1.png"/>
          <p:cNvPicPr/>
          <p:nvPr/>
        </p:nvPicPr>
        <p:blipFill>
          <a:blip r:embed="rId2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93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293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ppt title pg bkgd-1.png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3"/>
          <p:cNvSpPr/>
          <p:nvPr/>
        </p:nvSpPr>
        <p:spPr>
          <a:xfrm>
            <a:off x="8513640" y="6248520"/>
            <a:ext cx="37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29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Box 8"/>
          <p:cNvSpPr/>
          <p:nvPr/>
        </p:nvSpPr>
        <p:spPr>
          <a:xfrm>
            <a:off x="2616120" y="3056040"/>
            <a:ext cx="39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uccessful Club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9"/>
          <p:cNvSpPr/>
          <p:nvPr/>
        </p:nvSpPr>
        <p:spPr>
          <a:xfrm>
            <a:off x="3003120" y="3665520"/>
            <a:ext cx="312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93f"/>
                </a:solidFill>
                <a:latin typeface="Arial"/>
                <a:ea typeface="Arial"/>
              </a:rPr>
              <a:t>Mentor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1676520" y="2514240"/>
            <a:ext cx="67816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ll how you have benefit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vite the mentee to other even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knowledge progres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ain officers’ dut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ain speech contes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ribe the organiz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The Mentoring Steps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1600200" y="1884240"/>
            <a:ext cx="449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Over Tim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50"/>
                            </p:stCondLst>
                            <p:childTnLst>
                              <p:par>
                                <p:cTn id="213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2666880" y="2514240"/>
            <a:ext cx="46483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Aft>
                <a:spcPts val="1199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ger to lear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1199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ep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1199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en to new ide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1199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y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1199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atefu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8381880" y="6400800"/>
            <a:ext cx="3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Qualities of Mentees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2209680" y="1884240"/>
            <a:ext cx="4496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entees should b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143000" y="2819520"/>
            <a:ext cx="68580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93f"/>
                </a:solidFill>
                <a:latin typeface="Arial"/>
              </a:rPr>
              <a:t>It should not last forever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8305920" y="6400800"/>
            <a:ext cx="3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A Finite Relationship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50"/>
                            </p:stCondLst>
                            <p:childTnLst>
                              <p:par>
                                <p:cTn id="27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2438280" y="1981080"/>
            <a:ext cx="5639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293f"/>
                </a:solidFill>
                <a:latin typeface="Arial"/>
              </a:rPr>
              <a:t>Experienc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293f"/>
                </a:solidFill>
                <a:latin typeface="Arial"/>
              </a:rPr>
              <a:t>        </a:t>
            </a:r>
            <a:r>
              <a:rPr b="1" i="1" lang="en-US" sz="4800" spc="-1" strike="noStrike">
                <a:solidFill>
                  <a:srgbClr val="00293f"/>
                </a:solidFill>
                <a:latin typeface="Arial"/>
              </a:rPr>
              <a:t>Lear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293f"/>
                </a:solidFill>
                <a:latin typeface="Arial"/>
              </a:rPr>
              <a:t>               </a:t>
            </a:r>
            <a:r>
              <a:rPr b="1" i="1" lang="en-US" sz="4800" spc="-1" strike="noStrike">
                <a:solidFill>
                  <a:srgbClr val="00293f"/>
                </a:solidFill>
                <a:latin typeface="Arial"/>
              </a:rPr>
              <a:t>Benefi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8305920" y="6400800"/>
            <a:ext cx="3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"/>
                            </p:stCondLst>
                            <p:childTnLst>
                              <p:par>
                                <p:cTn id="2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750"/>
                            </p:stCondLst>
                            <p:childTnLst>
                              <p:par>
                                <p:cTn id="2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250"/>
                            </p:stCondLst>
                            <p:childTnLst>
                              <p:par>
                                <p:cTn id="2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066320" y="2514240"/>
            <a:ext cx="7162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89880" indent="-389880">
              <a:spcAft>
                <a:spcPts val="1500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kes a personal interest and hel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9880" indent="-389880">
              <a:spcAft>
                <a:spcPts val="1500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rves as a role model, coach,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 confidan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9880" indent="-389880">
              <a:spcAft>
                <a:spcPts val="1500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ffers knowledge, insight, perspective,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 wisdo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9880" indent="-389880">
              <a:spcAft>
                <a:spcPts val="1500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lps someone become successfu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What is a Mentor?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1066680" y="1884240"/>
            <a:ext cx="213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 mentor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523880" y="2057400"/>
            <a:ext cx="73152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spcAft>
                <a:spcPts val="18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arn the progra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18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arn club standards and custo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18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velop confid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18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ticipate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18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uickly learn speaking skil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685440" y="837720"/>
            <a:ext cx="6553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Easing the Transition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5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209680" y="2839680"/>
            <a:ext cx="5943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spcAft>
                <a:spcPts val="21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rther refine skil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21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arn new skil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Developing Special Skills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1828800" y="2057400"/>
            <a:ext cx="6324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ore experienced member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5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057040" y="2286000"/>
            <a:ext cx="6629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spcBef>
                <a:spcPts val="2100"/>
              </a:spcBef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arn from their mente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Bef>
                <a:spcPts val="2100"/>
              </a:spcBef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main produc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Bef>
                <a:spcPts val="2100"/>
              </a:spcBef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 something for oth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Bef>
                <a:spcPts val="2100"/>
              </a:spcBef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eive recogni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2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Benefits to Mentors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5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2286000" y="2361960"/>
            <a:ext cx="5867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spcAft>
                <a:spcPts val="2276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re memb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2276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re satisfied memb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2276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gher member reten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Benefits to Clubs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5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343040" y="2209320"/>
            <a:ext cx="3962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lnSpc>
                <a:spcPct val="90000"/>
              </a:lnSpc>
              <a:spcBef>
                <a:spcPts val="726"/>
              </a:spcBef>
              <a:spcAft>
                <a:spcPts val="108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uppor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Bef>
                <a:spcPts val="726"/>
              </a:spcBef>
              <a:spcAft>
                <a:spcPts val="108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Knowledgeab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Bef>
                <a:spcPts val="726"/>
              </a:spcBef>
              <a:spcAft>
                <a:spcPts val="108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onfiden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Bef>
                <a:spcPts val="726"/>
              </a:spcBef>
              <a:spcAft>
                <a:spcPts val="108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 good listene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Bef>
                <a:spcPts val="726"/>
              </a:spcBef>
              <a:spcAft>
                <a:spcPts val="108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oncern for other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1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Mentor Qualities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1371600" y="2209680"/>
            <a:ext cx="28954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8520" indent="-398520">
              <a:lnSpc>
                <a:spcPct val="90000"/>
              </a:lnSpc>
              <a:spcBef>
                <a:spcPts val="726"/>
              </a:spcBef>
              <a:spcAft>
                <a:spcPts val="108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Availabl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98520" indent="-398520">
              <a:lnSpc>
                <a:spcPct val="90000"/>
              </a:lnSpc>
              <a:spcBef>
                <a:spcPts val="726"/>
              </a:spcBef>
              <a:spcAft>
                <a:spcPts val="108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Patien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98520" indent="-398520">
              <a:lnSpc>
                <a:spcPct val="90000"/>
              </a:lnSpc>
              <a:spcBef>
                <a:spcPts val="726"/>
              </a:spcBef>
              <a:spcAft>
                <a:spcPts val="108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Sensitiv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98520" indent="-398520">
              <a:lnSpc>
                <a:spcPct val="90000"/>
              </a:lnSpc>
              <a:spcBef>
                <a:spcPts val="726"/>
              </a:spcBef>
              <a:spcAft>
                <a:spcPts val="108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Respectfu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98520" indent="-398520">
              <a:lnSpc>
                <a:spcPct val="90000"/>
              </a:lnSpc>
              <a:spcBef>
                <a:spcPts val="726"/>
              </a:spcBef>
              <a:spcAft>
                <a:spcPts val="108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Flexibl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5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2057040" y="2590920"/>
            <a:ext cx="6172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00"/>
              </a:spcBef>
              <a:spcAft>
                <a:spcPts val="195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 with the new memb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spcAft>
                <a:spcPts val="195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ent the new member to club customs and proced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spcAft>
                <a:spcPts val="195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how to sign 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spcAft>
                <a:spcPts val="195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 with the Ice Break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4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The Mentoring Steps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74" name="TextBox 4"/>
          <p:cNvSpPr/>
          <p:nvPr/>
        </p:nvSpPr>
        <p:spPr>
          <a:xfrm>
            <a:off x="1523880" y="1884240"/>
            <a:ext cx="4038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The First Meet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5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285640" y="2590560"/>
            <a:ext cx="5334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5880" indent="-515880">
              <a:spcAft>
                <a:spcPts val="15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ke mentees aware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f resourc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5880" indent="-515880">
              <a:spcAft>
                <a:spcPts val="15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vide positive feedback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5880" indent="-515880">
              <a:spcAft>
                <a:spcPts val="15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ain responsibilit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5880" indent="-515880">
              <a:spcAft>
                <a:spcPts val="15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lp with speeches and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ther assignmen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The Mentoring Steps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78" name="TextBox 4"/>
          <p:cNvSpPr/>
          <p:nvPr/>
        </p:nvSpPr>
        <p:spPr>
          <a:xfrm>
            <a:off x="1600200" y="1884240"/>
            <a:ext cx="449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The Next Meet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5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3T15:22:13Z</dcterms:created>
  <dc:creator>Corey Smith</dc:creator>
  <dc:description/>
  <dc:language>en-US</dc:language>
  <cp:lastModifiedBy>Diana Helms</cp:lastModifiedBy>
  <cp:lastPrinted>2011-03-07T22:20:14Z</cp:lastPrinted>
  <dcterms:modified xsi:type="dcterms:W3CDTF">2011-04-04T16:14:31Z</dcterms:modified>
  <cp:revision>62</cp:revision>
  <dc:subject/>
  <dc:title>PowerPoint Presentation</dc:title>
</cp:coreProperties>
</file>