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9651-01C0-43FE-B5CC-D8AA90A88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2CF9-FCE9-4814-B109-5A6213A6B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FB65-EC96-42F6-9660-35BC020B3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EE63-4662-473F-B473-393377C87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87F4-7670-463D-A8D1-25DF19B05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1128-E20F-48C7-A5B7-2D70646D4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02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28600" y="36115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Meeting Roles and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Responsibilit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ssigned Meeting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44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astma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picsma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Evalu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4"/>
          <p:cNvSpPr/>
          <p:nvPr/>
        </p:nvSpPr>
        <p:spPr>
          <a:xfrm>
            <a:off x="472428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peech Evaluato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im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rammari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h-Coun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362320" y="2133360"/>
            <a:ext cx="5867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er of Inv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kema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te Cou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liamentari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ditional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04760" y="1904760"/>
            <a:ext cx="6476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geant at A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ce Preside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ce President Public Rel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ce President Membe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ret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sur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914040"/>
            <a:ext cx="6553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ub Officers’ Meeting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93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00293f"/>
                </a:solidFill>
                <a:latin typeface="Arial"/>
              </a:rPr>
              <a:t>Coming together is a beginning. Keeping together is progress. Working together is success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6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Henry Ford, American Industrialist;</a:t>
            </a:r>
            <a:br>
              <a:rPr sz="2800"/>
            </a:b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pioneer of the assembly-line produc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04:21Z</dcterms:created>
  <dc:creator>Corey Smith</dc:creator>
  <dc:description/>
  <dc:language>en-US</dc:language>
  <cp:lastModifiedBy>Diana Helms</cp:lastModifiedBy>
  <cp:lastPrinted>2011-03-24T21:19:41Z</cp:lastPrinted>
  <dcterms:modified xsi:type="dcterms:W3CDTF">2011-04-04T16:10:24Z</dcterms:modified>
  <cp:revision>64</cp:revision>
  <dc:subject/>
  <dc:title>PowerPoint Presentation</dc:title>
</cp:coreProperties>
</file>