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96F7-8164-42E2-ABBF-200694C01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D8EA-938A-49A4-A198-B4D8D22BD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8705-C9E7-45CC-9DD3-7DE96A27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E1CC-CF6C-4B76-A1CA-B48A7681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84F5-2790-4017-A14D-7F8D94095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377-8D59-4225-8DDC-4880861B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8878-353E-49B3-A7F3-1F9B4EF5E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4812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954080" y="3657600"/>
            <a:ext cx="522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reating the Best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lub Clim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90920" y="2819520"/>
            <a:ext cx="5943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sical clim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onal clim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Climat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868760" y="2209680"/>
            <a:ext cx="38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The Deciding Fa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90920" y="297180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iving prepa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ing as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nte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56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et an Exampl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818000" y="2209680"/>
            <a:ext cx="517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Make a good impression b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9072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t g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 them in conver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swer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m to another meeting or to jo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Welcome Guest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62120" y="2133720"/>
            <a:ext cx="426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First Impressions Cou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057040" y="2514240"/>
            <a:ext cx="6248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a men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interest in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conside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effectiv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1125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ster camarade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how New Members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at You Car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Keep your</a:t>
            </a:r>
            <a:br>
              <a:rPr sz="4800"/>
            </a:b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club thriv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9:31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07:38Z</dcterms:modified>
  <cp:revision>60</cp:revision>
  <dc:subject/>
  <dc:title>PowerPoint Presentation</dc:title>
</cp:coreProperties>
</file>