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8517-558B-4050-BC1C-3975E24AB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4023-6B74-4C7B-9B75-DBAF46CD3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850-D0D2-4632-9F78-885D0379F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7837-BCC2-4D8E-BAB0-673472556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4114-2A4B-49BE-91AC-BC5F87859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7F6F-0DA3-43F5-8123-5C9AA156E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C762-32FF-4D25-8058-C9ABA6322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F4F1-2F80-4E79-BF0C-6D52B53E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8D83-9F6C-492F-8A66-82903440B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13AE-9DF6-46C1-B595-3D0FFD2F8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1B2F-3D4F-4A5B-B511-9B2D6106F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E00E-B12D-4041-B495-4269DA79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F4B6-7D1B-4398-BAA0-F7F588694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106360" y="3665520"/>
            <a:ext cx="491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losing the Sa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illing Out the Applicat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or Membership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265040" y="2868480"/>
            <a:ext cx="52617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Recruiter Information and </a:t>
            </a:r>
            <a:br>
              <a:rPr sz="3200"/>
            </a:b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Language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400 recruiter.pdf"/>
          <p:cNvPicPr/>
          <p:nvPr/>
        </p:nvPicPr>
        <p:blipFill>
          <a:blip r:embed="rId1"/>
          <a:stretch/>
        </p:blipFill>
        <p:spPr>
          <a:xfrm>
            <a:off x="876240" y="4648320"/>
            <a:ext cx="6591240" cy="1434960"/>
          </a:xfrm>
          <a:prstGeom prst="rect">
            <a:avLst/>
          </a:prstGeom>
          <a:ln w="6480">
            <a:solidFill>
              <a:srgbClr val="808080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81" name="Picture 8" descr="400 lang.select.pdf"/>
          <p:cNvPicPr/>
          <p:nvPr/>
        </p:nvPicPr>
        <p:blipFill>
          <a:blip r:embed="rId2"/>
          <a:stretch/>
        </p:blipFill>
        <p:spPr>
          <a:xfrm>
            <a:off x="6934320" y="2057400"/>
            <a:ext cx="1676160" cy="2413080"/>
          </a:xfrm>
          <a:prstGeom prst="rect">
            <a:avLst/>
          </a:prstGeom>
          <a:ln w="6480">
            <a:solidFill>
              <a:srgbClr val="80808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3055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</a:rPr>
              <a:t>Filling Out the Application for Membership</a:t>
            </a:r>
            <a:endParaRPr b="1" lang="en-US" sz="32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914400" y="2365200"/>
            <a:ext cx="3276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93f"/>
                </a:solidFill>
                <a:latin typeface="Arial"/>
                <a:ea typeface="Arial"/>
              </a:rPr>
              <a:t>Signatories </a:t>
            </a:r>
            <a:br>
              <a:rPr sz="2800"/>
            </a:br>
            <a:r>
              <a:rPr b="1" lang="en-US" sz="2800" spc="-1" strike="noStrike">
                <a:solidFill>
                  <a:srgbClr val="00293f"/>
                </a:solidFill>
                <a:latin typeface="Arial"/>
                <a:ea typeface="Arial"/>
              </a:rPr>
              <a:t>and Pa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400 payment.pdf"/>
          <p:cNvPicPr/>
          <p:nvPr/>
        </p:nvPicPr>
        <p:blipFill>
          <a:blip r:embed="rId1"/>
          <a:stretch/>
        </p:blipFill>
        <p:spPr>
          <a:xfrm>
            <a:off x="3733920" y="2362320"/>
            <a:ext cx="4074840" cy="2566800"/>
          </a:xfrm>
          <a:prstGeom prst="rect">
            <a:avLst/>
          </a:prstGeom>
          <a:ln w="6480">
            <a:solidFill>
              <a:srgbClr val="808080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86" name="Picture 9" descr="400 signatories.pdf"/>
          <p:cNvPicPr/>
          <p:nvPr/>
        </p:nvPicPr>
        <p:blipFill>
          <a:blip r:embed="rId2"/>
          <a:stretch/>
        </p:blipFill>
        <p:spPr>
          <a:xfrm>
            <a:off x="990720" y="4648320"/>
            <a:ext cx="4081320" cy="1563480"/>
          </a:xfrm>
          <a:prstGeom prst="rect">
            <a:avLst/>
          </a:prstGeom>
          <a:ln w="6480">
            <a:solidFill>
              <a:srgbClr val="808080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2058480"/>
            <a:ext cx="609624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1428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1428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ing ro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1428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tor ass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1428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erials and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1428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fficial in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981800" y="5684760"/>
            <a:ext cx="4239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1428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93f"/>
                </a:solidFill>
                <a:latin typeface="Arial"/>
              </a:rPr>
              <a:t>A Win-Win sa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9"/>
          <p:cNvSpPr/>
          <p:nvPr/>
        </p:nvSpPr>
        <p:spPr>
          <a:xfrm>
            <a:off x="1981080" y="5532480"/>
            <a:ext cx="5715000" cy="1440"/>
          </a:xfrm>
          <a:prstGeom prst="line">
            <a:avLst/>
          </a:prstGeom>
          <a:ln w="38160">
            <a:solidFill>
              <a:srgbClr val="002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ings begin and end on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arrive early and prepa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ub officers fulfill their responsi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eting proceeds at a good p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mbers are enthusiast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 project is a manual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Meeting Standard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24080" y="22093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3725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-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3725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-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3725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e-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440" y="990360"/>
            <a:ext cx="6705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Working Toward the Win-Wi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057040" y="2057040"/>
            <a:ext cx="655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speaking 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social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er self-este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Discuss the Benefit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8120" y="228564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72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2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2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2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2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ose that Sal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Vice President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Membership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682560" y="2889360"/>
            <a:ext cx="7778880" cy="19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illing Out the Applicat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or Membership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pic>
        <p:nvPicPr>
          <p:cNvPr id="67" name="Picture 4" descr="400 front.pdf"/>
          <p:cNvPicPr/>
          <p:nvPr/>
        </p:nvPicPr>
        <p:blipFill>
          <a:blip r:embed="rId1"/>
          <a:stretch/>
        </p:blipFill>
        <p:spPr>
          <a:xfrm>
            <a:off x="2971800" y="2362320"/>
            <a:ext cx="3203640" cy="4146480"/>
          </a:xfrm>
          <a:prstGeom prst="rect">
            <a:avLst/>
          </a:prstGeom>
          <a:ln w="5040">
            <a:solidFill>
              <a:srgbClr val="80808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4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illing Out the Applicat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or Membership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9360" y="2361960"/>
            <a:ext cx="2971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inst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ew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081440" y="2362320"/>
            <a:ext cx="30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Membe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400 member status.pdf"/>
          <p:cNvPicPr/>
          <p:nvPr/>
        </p:nvPicPr>
        <p:blipFill>
          <a:blip r:embed="rId1"/>
          <a:stretch/>
        </p:blipFill>
        <p:spPr>
          <a:xfrm>
            <a:off x="762120" y="5334120"/>
            <a:ext cx="7772400" cy="60948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illing Out the Applicat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or Membership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6760" y="32767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mbers pa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fer membe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the abov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449440" y="259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7:14:15Z</dcterms:created>
  <dc:creator>Corey Smith</dc:creator>
  <dc:description/>
  <dc:language>en-US</dc:language>
  <cp:lastModifiedBy>Diana Helms</cp:lastModifiedBy>
  <cp:lastPrinted>2011-06-29T17:56:45Z</cp:lastPrinted>
  <dcterms:modified xsi:type="dcterms:W3CDTF">2011-06-29T18:15:13Z</dcterms:modified>
  <cp:revision>64</cp:revision>
  <dc:subject/>
  <dc:title>PowerPoint Presentation</dc:title>
</cp:coreProperties>
</file>