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B9D2-D5E7-4AC3-BE12-B8193E0C4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E61C-41D1-4BEB-AD8B-CF6A3C3A1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8587-1CD0-41E2-9C66-791189B39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4C4E-ED19-4078-81BF-3E88076C1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5E76-5172-4050-BE3A-A0F7B2242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DF91-AEB3-420A-A29A-3503C96F0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9BA9-E0F7-46A8-9E3C-F8B9AD5C5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8035-23FB-4764-A38D-9157C922D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531800" y="3665520"/>
            <a:ext cx="606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Evaluate to Motiv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Evaluations Benefit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peakers by…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2666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4436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ing immediate feedb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436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ering methods for impr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436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ing and maintaining self-este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Evaluating by the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“Tell and Sell” Approach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85800" y="28195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  <a:ea typeface="Arial"/>
              </a:rPr>
              <a:t>When the evaluator talk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50000"/>
              </a:lnSpc>
              <a:spcBef>
                <a:spcPts val="10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  <a:ea typeface="Arial"/>
              </a:rPr>
              <a:t>…</a:t>
            </a:r>
            <a:r>
              <a:rPr b="1" lang="en-US" sz="4000" spc="-1" strike="noStrike">
                <a:solidFill>
                  <a:srgbClr val="00293f"/>
                </a:solidFill>
                <a:latin typeface="Arial"/>
                <a:ea typeface="Arial"/>
              </a:rPr>
              <a:t>and the speaker liste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spcBef>
                <a:spcPts val="561"/>
              </a:spcBef>
              <a:spcAft>
                <a:spcPts val="10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fore the speech, talk with th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 about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440" y="91404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How to Evaluate Effectively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523880" y="281952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523880" y="4764240"/>
            <a:ext cx="696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you are inter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yourself in the position of the sp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762120" y="42670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spcAft>
                <a:spcPts val="10800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uring the speec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How to Evaluate Effectively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295280" y="212076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4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uring your evalu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1752480" y="288288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your words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e speech, not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self-este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void Being Disingenuou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68580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  <a:ea typeface="Arial"/>
              </a:rPr>
              <a:t>Honest evaluations are upbeat and encouraging while offering suggestions for improv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osing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295280" y="24382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 to your opening stat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ize your key po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a personal story or examp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courage listeners to apply wha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eard and learn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7:24:01Z</dcterms:created>
  <dc:creator>Corey Smith</dc:creator>
  <dc:description/>
  <dc:language>en-US</dc:language>
  <cp:lastModifiedBy>Diana Helms</cp:lastModifiedBy>
  <cp:lastPrinted>2011-03-24T17:36:10Z</cp:lastPrinted>
  <dcterms:modified xsi:type="dcterms:W3CDTF">2011-04-04T15:59:19Z</dcterms:modified>
  <cp:revision>63</cp:revision>
  <dc:subject/>
  <dc:title>PowerPoint Presentation</dc:title>
</cp:coreProperties>
</file>